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B53-D495-4A23-AD8C-1F026DD7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8A8-7FBE-4B21-B264-F1B017FE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5B7-D43B-4C2C-8CCF-011D38B4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8C3-40FE-4496-A55C-6A56A4CB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81A-0CBD-4195-B165-C58172FA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A00-01F1-4941-B358-98E0D724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36E-EA7E-4D78-9A13-75CE41DA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E96-8995-4E0F-B710-7A4E45E3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46A-4F84-4723-A123-FC320242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05B-1CCE-4347-B269-39C66086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17E-1247-4B4C-BD82-3D40798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9E8-3AD6-489E-9FD6-BF78C020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C84F-4E6B-4263-AF00-56A9C2553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8"/>
          <p:cNvGrpSpPr/>
          <p:nvPr/>
        </p:nvGrpSpPr>
        <p:grpSpPr>
          <a:xfrm>
            <a:off x="609480" y="990720"/>
            <a:ext cx="3276720" cy="2971800"/>
            <a:chOff x="609480" y="990720"/>
            <a:chExt cx="3276720" cy="2971800"/>
          </a:xfrm>
        </p:grpSpPr>
        <p:pic>
          <p:nvPicPr>
            <p:cNvPr id="42" name="Picture 6" descr=""/>
            <p:cNvPicPr/>
            <p:nvPr/>
          </p:nvPicPr>
          <p:blipFill>
            <a:blip r:embed="rId1"/>
            <a:srcRect l="0" t="0" r="1249" b="22001"/>
            <a:stretch/>
          </p:blipFill>
          <p:spPr>
            <a:xfrm>
              <a:off x="609480" y="990720"/>
              <a:ext cx="3276720" cy="18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7" descr=""/>
            <p:cNvPicPr/>
            <p:nvPr/>
          </p:nvPicPr>
          <p:blipFill>
            <a:blip r:embed="rId2"/>
            <a:srcRect l="0" t="46001" r="1249" b="4998"/>
            <a:stretch/>
          </p:blipFill>
          <p:spPr>
            <a:xfrm>
              <a:off x="609480" y="2815920"/>
              <a:ext cx="3276720" cy="11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6"/>
          <p:cNvSpPr/>
          <p:nvPr/>
        </p:nvSpPr>
        <p:spPr>
          <a:xfrm>
            <a:off x="1219320" y="838080"/>
            <a:ext cx="19810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dc.dlr.de/ac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OS Atmospheric Composition Por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rcRect l="24038" t="23669" r="16051" b="4143"/>
          <a:stretch/>
        </p:blipFill>
        <p:spPr>
          <a:xfrm>
            <a:off x="228600" y="4114800"/>
            <a:ext cx="2590920" cy="1951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7" name="Picture 3" descr=""/>
          <p:cNvPicPr/>
          <p:nvPr/>
        </p:nvPicPr>
        <p:blipFill>
          <a:blip r:embed="rId4"/>
          <a:stretch/>
        </p:blipFill>
        <p:spPr>
          <a:xfrm>
            <a:off x="4800600" y="990720"/>
            <a:ext cx="2611440" cy="1828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8" name="Picture 4" descr=""/>
          <p:cNvPicPr/>
          <p:nvPr/>
        </p:nvPicPr>
        <p:blipFill>
          <a:blip r:embed="rId5"/>
          <a:srcRect l="25001" t="83002" r="36877" b="7001"/>
          <a:stretch/>
        </p:blipFill>
        <p:spPr>
          <a:xfrm>
            <a:off x="4800600" y="2819520"/>
            <a:ext cx="2362320" cy="387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6"/>
          <a:srcRect l="0" t="23904" r="0" b="0"/>
          <a:stretch/>
        </p:blipFill>
        <p:spPr>
          <a:xfrm>
            <a:off x="4648320" y="3733920"/>
            <a:ext cx="2819160" cy="1962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0" name="Rectangle 9"/>
          <p:cNvSpPr/>
          <p:nvPr/>
        </p:nvSpPr>
        <p:spPr>
          <a:xfrm>
            <a:off x="1671480" y="5291280"/>
            <a:ext cx="2819520" cy="13665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LR created a web tool for browsing data from distributed sources (e.g., DLR, NASA GES, Giovanni and DataFed) using OGC WMS and WC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308640" y="5295960"/>
            <a:ext cx="266724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LR created a web tool for initiating displaying via OGC WMS time filtered and aggregated gridded data calculated by DataF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6172200" y="2057400"/>
            <a:ext cx="2819520" cy="121932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LR created a web tool for initiating and displaying via OGC WMS  the results of a grid difference calculated by NASA Giovan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03:19Z</dcterms:created>
  <dc:creator>sf</dc:creator>
  <dc:description/>
  <dc:language>en-US</dc:language>
  <cp:lastModifiedBy>sf</cp:lastModifiedBy>
  <dcterms:modified xsi:type="dcterms:W3CDTF">2011-01-05T14:26:06Z</dcterms:modified>
  <cp:revision>1</cp:revision>
  <dc:subject/>
  <dc:title>CEOS Atmospheric Composition Portal</dc:title>
</cp:coreProperties>
</file>